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BEA-F8C8-4877-91A5-A5D36F63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D25-2D46-486C-8EFB-3BDD0053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83EC-6492-46D7-AFAF-9157EEF9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DB0-3A17-42AC-806B-2761BB13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DAB-EDBF-42C0-BF2E-9C7AEC67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F98-819B-4438-88C4-51F32493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5521-E5A6-4323-9AB1-78B35A63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27D-54A5-47A8-A004-BB346967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B09-04FE-4792-88DF-B5913645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818-1DBD-4703-AAE5-5658EC08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73DA-29E0-4C22-9DF6-7AC8B8FE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9F4-E5B7-4E23-91FE-D82F08BD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74B7-681F-4F95-AA63-D3679046F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равнительная характеристика Обломова и Мани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Мечты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752120"/>
            <a:ext cx="4040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чты о собственном благоустройстве, размышления о человечестве и искус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жаления о бесцельной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4720" y="1752120"/>
            <a:ext cx="4041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н предается мечтам, бесплодным и фантастическим, которые никогда не сможет осуществить, так как всякий труд, любая деятельность ему чуж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чтает о том, как хорошо бы построить через пруд каменный мост или от дома повести подземный 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бщий 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а помещики, оба не любят заниматься хозяйством, вести приходные книги, у обоих родовые имения находятся в запустении (деревни Маниловка и Обломов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обоих героев - «отсутствие всякой определенной идеи, всякой сосредоточенно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голь характеризует Манилова как отрицательного персонажа: «мёртвая душа», за «сладостью» скрывается безразличие и даже жесто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омов в изображении Гончарова не мнимо (как Манилов), а действительно приятный, и действительно добрый, мягкий, откровенный и сердечный человек. И он вызывает в окружающих людях совсем иные (чем Манилов) чув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бщие 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омов,  несомненно,  и   гораздо   умнее Манилова, и совершенно лишен той  восторженности  и  слащавости,  которые  в Манилове преобладаю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начением Обломова станет смерть. Вечный покой, вечная тишина и ленивое «переползанье» изо дня в день тихо остановили машину его жиз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я выражение Белинского, можно сказать, что Манилов- «старший брат» Обломова, в котором эта помещичья лень достигла крайней степ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litra.ru/composition/get/coid/00277031253376808705/woid/00012601184773069654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litra.ru/characters/get/chid/00708531190817804854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tvet.mail.ru/question/48911591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tvet.mail.ru/question/47631457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blomov.omsk.edu/koi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. В. Гоголь «Мёртвые душ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. А. Гончаров «Облом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ить характер Манилова («Мертвые души» Гоголь) и характер Обломова («Обломов» Гончар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сходства в характерах геро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различия в характерах геро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нешность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9810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т 32-33 от р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го ро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ятной наруж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тёмно-серыми глаз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с отсутствием всякой определённой идеи, всякой сосредоточенности в чертах л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вет лица «безразличн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7960" y="19810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ты лица – прият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лок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голубыми глаз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Сладость» в лице и глаз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6" descr="im16.jpg"/>
          <p:cNvPicPr/>
          <p:nvPr/>
        </p:nvPicPr>
        <p:blipFill>
          <a:blip r:embed="rId1"/>
          <a:stretch/>
        </p:blipFill>
        <p:spPr>
          <a:xfrm>
            <a:off x="990720" y="762120"/>
            <a:ext cx="3504960" cy="47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Рисунок 7" descr="3288_original.gif"/>
          <p:cNvPicPr/>
          <p:nvPr/>
        </p:nvPicPr>
        <p:blipFill>
          <a:blip r:embed="rId2"/>
          <a:stretch/>
        </p:blipFill>
        <p:spPr>
          <a:xfrm>
            <a:off x="4724280" y="1523880"/>
            <a:ext cx="381168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TextBox 8"/>
          <p:cNvSpPr/>
          <p:nvPr/>
        </p:nvSpPr>
        <p:spPr>
          <a:xfrm>
            <a:off x="2057400" y="5791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095880" y="4724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о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Характер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828440"/>
            <a:ext cx="40402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енив, любит «поваляться» и посп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сервативен во вкусах и взгляд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чтате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занимается хозяйств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лавное для него – покой, не терпит суе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любит заниматься дел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ужелюбен с друзья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призен, может вспыли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4720" y="1828440"/>
            <a:ext cx="4041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ловек «ни то, ни сё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ужелюбен «до тошноты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От него не дождешься никакого живого слов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ного думает, мало говори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озяйство идет «само собо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коен, умиротворен, мяг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Сахарное» удовольств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о всех хорошего мнения, всем старается угоди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Занимаемая долж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76520"/>
            <a:ext cx="40402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орянин родом, коллежский секретарь чином, безвыездно живет двенадцатый год в Петербург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Гороховой улице, в одном из больших домо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наследству досталась деревн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990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ещ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нат, двое детей (жена – под стать муж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вет в 16 верстах от уездного горо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деревне Маниловк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личие слуг у героев и ведение хозяй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057040"/>
            <a:ext cx="4040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га Зах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ревня ( всем заправляет староста, хозяин ничего не знает о доходах и расход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7960" y="2057040"/>
            <a:ext cx="4041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Хозяйство идет само собой»: помещик не знает о судьбе своих крестьян (приказчи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крестьяне живут в нищете, в доме царит беспоряд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Друзья и светская жизнь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676160"/>
            <a:ext cx="4040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ков, Судьбинский, Пенкин; Алексеев Иван Алексеевич, Михей Андреевич Тарантьев, Андрей Иванович Штольц («человек действия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любит выезжать из дома, «не подъёмн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960" y="9140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4720" y="1676160"/>
            <a:ext cx="4041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новники уездного города, помещики (Ноздрев, Собакевич и т. 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почитает домашний уют, но не против поехать в город, в г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наговаривает на друз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Admin</cp:lastModifiedBy>
  <dcterms:modified xsi:type="dcterms:W3CDTF">2013-05-07T14:45:05Z</dcterms:modified>
  <cp:revision>12</cp:revision>
  <dc:subject/>
  <dc:title>Название презентации</dc:title>
</cp:coreProperties>
</file>